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A45-B54A-4F43-85B8-A510481F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505-7AA1-41CB-B96B-BCABB655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07D-E762-476D-A72A-F93448CF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08B-FCA0-40BF-B3FF-E56E423D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D211-C6B5-43CC-9F91-2CC417C0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AE4F-FC3E-4D44-881B-ED546891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0E26-6E50-4827-A6B8-13C3E25F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4395-88DA-46D1-9B8B-99CB9615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5D8B-14BE-4894-BA84-B00AD34F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7343-C21E-48C2-9AF2-28FA5F10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01DD-F9D7-41F6-A3E0-C717FE14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CAA-2090-4CB9-B954-47C4BACA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B3DD-6727-4D34-AA26-AC12819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2B5D-C00C-46CA-985A-270DDE3F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3C82-57A2-477C-AD8E-A0127F5C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5E48-B0F5-4A21-855B-62F8C54A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715C-8E5B-46E3-A346-1BEA9090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40A-E22E-4A47-BFD2-4924BC05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CD0-F155-4F48-B9BA-ECF63811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C4E-C17A-467C-A0A7-3F524EF4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F55-3D38-4458-BB0F-51841D29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763-EBCF-42C0-8C5D-B364150C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8B3-FBCA-404F-98C1-8F8509B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185-0A00-49A4-B0E7-8C73159B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1D4C-DAFB-48F5-9EE7-78CEF4770C4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3BF2-10FD-4622-A922-8517585F27F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Karl  Marx 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341360"/>
            <a:ext cx="7696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fore long (Par.2—L3) ;  s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hospital will be set up in my home town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789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这本书很快就要写完了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724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ook will be finished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105264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keep on doing (Par.4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eep on trying, and you’ll make greater progres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33577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宋体"/>
              </a:rPr>
              <a:t>他在会上一言不发，只是一个劲地抽烟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0536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didn't say anything a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eting but kept on smokin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4842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. in one’s fifties (Par.5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Both my parents are in their seventies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382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四十多岁时当上了校长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43700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became the headmistress in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ti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44792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 be sure of /about (Par.3—L1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sure of /about the dat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314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我说不准他的电话号码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9264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not sure of his telephone nu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447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 translate…into…(Par.6—L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late the following sent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o English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6878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的书已经被译成了好几种语言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4365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book has been translated into several languag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3280" y="1052640"/>
            <a:ext cx="7238880" cy="1477080"/>
            <a:chOff x="1403280" y="1052640"/>
            <a:chExt cx="7238880" cy="1477080"/>
          </a:xfrm>
        </p:grpSpPr>
        <p:sp>
          <p:nvSpPr>
            <p:cNvPr id="187" name=""/>
            <p:cNvSpPr/>
            <p:nvPr/>
          </p:nvSpPr>
          <p:spPr>
            <a:xfrm>
              <a:off x="1479600" y="1052640"/>
              <a:ext cx="71625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sth.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  (dialogue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it 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+ to d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328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00000" y="270828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listening really difficult for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English idioms har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e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sth.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(dialogu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it 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+ to 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fin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interesting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lk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eigner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think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necessar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ell h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tru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184464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26920" y="1052640"/>
            <a:ext cx="7620120" cy="1384200"/>
            <a:chOff x="826920" y="1052640"/>
            <a:chExt cx="7620120" cy="1384200"/>
          </a:xfrm>
        </p:grpSpPr>
        <p:sp>
          <p:nvSpPr>
            <p:cNvPr id="195" name=""/>
            <p:cNvSpPr/>
            <p:nvPr/>
          </p:nvSpPr>
          <p:spPr>
            <a:xfrm>
              <a:off x="903240" y="1052640"/>
              <a:ext cx="75438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o…+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adj./adv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  (Par.2—L3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uch…+ 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n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92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00000" y="2852640"/>
            <a:ext cx="7620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book is so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goo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read it ag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such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good boo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to read it agai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765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起得太晚了结果没赶上校车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4842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got up so late that she miss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chool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3141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他是个非常马虎的人，经常丢钥匙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3933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is such a careless person 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often loses his key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90792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变化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is is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good a book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at I wa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ad it ag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如果没有冠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则不能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变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0" y="1474920"/>
            <a:ext cx="6248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Unit 21   Karl  Mar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二讲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71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例：与“多少”连用时，只能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 + many / much / little / few +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ere were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many peopl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on the bu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at I could hardly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55736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Was the job difficul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I found it quite ___to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easily     B. har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easy       D. hard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2349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1197000"/>
            <a:ext cx="754380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Which of the following wo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another way of say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use ... freely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et                 B. mast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understand    D. cat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5334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16280"/>
            <a:ext cx="7467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He began to work as a doctor i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the twenty    B. the twenty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his twenty     D. his twen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2666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1197000"/>
            <a:ext cx="7620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He has made _____ that we are al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rpris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such great progres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such a great prog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o great progress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so great a progr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1197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733400"/>
            <a:ext cx="7467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Could you give me some advi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 how to impr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wri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of     B. on     C. in     D. f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557360"/>
            <a:ext cx="8076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----Did you see Jack at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he___ by the time I___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had left; got         B. left; had got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was leaving; g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had left; ha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916360" y="2349360"/>
            <a:ext cx="3961800" cy="642600"/>
            <a:chOff x="2916360" y="2349360"/>
            <a:chExt cx="3961800" cy="642600"/>
          </a:xfrm>
        </p:grpSpPr>
        <p:sp>
          <p:nvSpPr>
            <p:cNvPr id="222" name=""/>
            <p:cNvSpPr/>
            <p:nvPr/>
          </p:nvSpPr>
          <p:spPr>
            <a:xfrm>
              <a:off x="291636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500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333360"/>
            <a:ext cx="883944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What do you find hardest i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nglish?          (listening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Why do you think it is hard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 speak fast, can’t understan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Have you ever got high gr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n    listening test?      (never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692280"/>
            <a:ext cx="883908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How would you like to improve it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listen to some English tape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ch English program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n TV, practice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wn pronunci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do you think of the      result of   your effort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4130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have a talk with (P25--L1);  talk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a rest = res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ke a walk = walk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 a visit = vis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653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/ May I have a talk with you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76520" y="1371600"/>
            <a:ext cx="655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28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268280"/>
            <a:ext cx="761976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come across (P25--L1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with; happen to meet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by accid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reading the story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came across the word many tim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 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前两天我在车上遇到我以前的一个同学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other day I came across a former classmate of mine on the bu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844640"/>
            <a:ext cx="762012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force somebody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Par.1—L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ake sb.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didn’t want to go, but they forc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e to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10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他不愿意做就不要强迫他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force him to do it if he doesn'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 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e sb.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, but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b. be made to d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was made to work overtime by his bos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815328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make progress (Par.2—L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progres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可数，不用冠词，但可加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容词修饰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ood/great/much progres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429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ive advice on (Par.6—L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dv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可数，不用冠词，但可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饰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y parents often gave me some ad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how to get along with other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8:04:24Z</dcterms:created>
  <dc:creator>User</dc:creator>
  <dc:description/>
  <dc:language>en-US</dc:language>
  <cp:lastModifiedBy>Zhang Lingdi</cp:lastModifiedBy>
  <dcterms:modified xsi:type="dcterms:W3CDTF">2003-06-10T14:21:17Z</dcterms:modified>
  <cp:revision>70</cp:revision>
  <dc:subject/>
  <dc:title>PowerPoint 演示文稿</dc:title>
</cp:coreProperties>
</file>